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5799240" y="-360"/>
            <a:ext cx="443520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084400" y="414360"/>
            <a:ext cx="6066000" cy="419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363680" y="4673160"/>
            <a:ext cx="7507440" cy="1892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67449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5799240" y="6744960"/>
            <a:ext cx="443520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B772060-0E84-4A59-8E9D-22DF5CF35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799240" y="6745320"/>
            <a:ext cx="443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63DC338-F920-4CCE-80C4-BBA6FF425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084400" y="414360"/>
            <a:ext cx="6066000" cy="4199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363680" y="4673160"/>
            <a:ext cx="7507440" cy="18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CF4F-9264-4BCE-B78B-66C9FC2AD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067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9067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BC8D-45FA-4ED4-AD9A-25B724842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372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3720" y="413352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557F-FBD0-4BDB-9A85-82AC7F6CB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23320" y="190476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89080" y="190476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23320" y="413352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89080" y="4133520"/>
            <a:ext cx="291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5E8E-C4E1-4C05-A7F4-9A5A88CB8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326B-B65D-449B-B4CA-630AD29FC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F250-2014-428C-BBD4-5768B960D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24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3720" y="1904760"/>
            <a:ext cx="4424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A939-9496-4E3A-922B-48CCD364B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FFBA-CA3B-4DE1-B6CA-BCB46B409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48520"/>
            <a:ext cx="7566120" cy="10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C49D-1E06-40D1-903D-3D882BE7D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3720" y="1904760"/>
            <a:ext cx="4424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285F-396A-4195-8834-9A3062E41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24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372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3720" y="413352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D8E2-9598-4366-A06C-6D3BDDF4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3720" y="1904760"/>
            <a:ext cx="4424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9067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10F3-E849-447B-9D15-D8F350EC8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48520"/>
            <a:ext cx="75661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100656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B61146-816D-407F-AD0D-2E1DEE32A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51"/>
          <p:cNvGrpSpPr/>
          <p:nvPr/>
        </p:nvGrpSpPr>
        <p:grpSpPr>
          <a:xfrm>
            <a:off x="380880" y="195120"/>
            <a:ext cx="9220320" cy="381240"/>
            <a:chOff x="380880" y="195120"/>
            <a:chExt cx="9220320" cy="381240"/>
          </a:xfrm>
        </p:grpSpPr>
        <p:sp>
          <p:nvSpPr>
            <p:cNvPr id="4" name=""/>
            <p:cNvSpPr/>
            <p:nvPr/>
          </p:nvSpPr>
          <p:spPr>
            <a:xfrm>
              <a:off x="380880" y="195120"/>
              <a:ext cx="12956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76520" y="195120"/>
              <a:ext cx="622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INTED CIRCUIT BOARD ASSEMBLY PROCED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00920" y="195120"/>
              <a:ext cx="170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76520" y="1951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00920" y="1951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80880" y="195120"/>
              <a:ext cx="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601200" y="195120"/>
              <a:ext cx="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0880" y="195120"/>
              <a:ext cx="9220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576360"/>
              <a:ext cx="9220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310"/>
          <p:cNvSpPr/>
          <p:nvPr/>
        </p:nvSpPr>
        <p:spPr>
          <a:xfrm>
            <a:off x="380880" y="1600200"/>
            <a:ext cx="922032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413"/>
          <p:cNvSpPr/>
          <p:nvPr/>
        </p:nvSpPr>
        <p:spPr>
          <a:xfrm>
            <a:off x="457200" y="65152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Doc. 232 Rev.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415"/>
          <p:cNvSpPr/>
          <p:nvPr/>
        </p:nvSpPr>
        <p:spPr>
          <a:xfrm>
            <a:off x="4649760" y="3251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763"/>
          <p:cNvGrpSpPr/>
          <p:nvPr/>
        </p:nvGrpSpPr>
        <p:grpSpPr>
          <a:xfrm>
            <a:off x="380880" y="636480"/>
            <a:ext cx="9220320" cy="914400"/>
            <a:chOff x="380880" y="636480"/>
            <a:chExt cx="9220320" cy="914400"/>
          </a:xfrm>
        </p:grpSpPr>
        <p:sp>
          <p:nvSpPr>
            <p:cNvPr id="17" name=""/>
            <p:cNvSpPr/>
            <p:nvPr/>
          </p:nvSpPr>
          <p:spPr>
            <a:xfrm>
              <a:off x="380880" y="636480"/>
              <a:ext cx="131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PRODUCT I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698480" y="636480"/>
              <a:ext cx="45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SAMPLE3 – UNISOFT DEMONSTRATION PC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8400" y="636480"/>
              <a:ext cx="85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ISSU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135920" y="63648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24680" y="636480"/>
              <a:ext cx="71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37480" y="636480"/>
              <a:ext cx="96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/1/20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80880" y="865080"/>
              <a:ext cx="131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698480" y="865080"/>
              <a:ext cx="622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SMT/THD PCB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24680" y="865080"/>
              <a:ext cx="71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CO-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37480" y="865080"/>
              <a:ext cx="96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0880" y="1093680"/>
              <a:ext cx="131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ORIGIN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698480" y="1093680"/>
              <a:ext cx="622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John Do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24680" y="1093680"/>
              <a:ext cx="71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CO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37480" y="1093680"/>
              <a:ext cx="96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0880" y="1322280"/>
              <a:ext cx="131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698480" y="1322280"/>
              <a:ext cx="622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24680" y="1322280"/>
              <a:ext cx="71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CO-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37480" y="1322280"/>
              <a:ext cx="96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698480" y="6364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278400" y="636480"/>
              <a:ext cx="0" cy="22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135920" y="636480"/>
              <a:ext cx="0" cy="22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924680" y="6364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637480" y="6364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80880" y="865080"/>
              <a:ext cx="9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80880" y="1093680"/>
              <a:ext cx="9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0880" y="1322280"/>
              <a:ext cx="9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880" y="6364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601200" y="6364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0880" y="636480"/>
              <a:ext cx="9220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1550880"/>
              <a:ext cx="9220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693"/>
          <p:cNvSpPr/>
          <p:nvPr/>
        </p:nvSpPr>
        <p:spPr>
          <a:xfrm>
            <a:off x="4005360" y="3263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D980F8-BB4E-4311-B387-F4B4A3408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5"/>
          <p:cNvSpPr/>
          <p:nvPr/>
        </p:nvSpPr>
        <p:spPr>
          <a:xfrm>
            <a:off x="5108760" y="236232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ANGE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286000"/>
          <a:ext cx="4191120" cy="3505320"/>
        </p:xfrm>
        <a:graphic>
          <a:graphicData uri="http://schemas.openxmlformats.org/drawingml/2006/table">
            <a:tbl>
              <a:tblPr/>
              <a:tblGrid>
                <a:gridCol w="2514600"/>
                <a:gridCol w="838440"/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SH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ASSY &amp; SOL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D SIDE 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DATA AUTO INSERT SI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 SI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D AUTO INSERT SI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ASSY &amp; SOLDER POST WAVE SI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105520" y="2743200"/>
          <a:ext cx="4368600" cy="1598760"/>
        </p:xfrm>
        <a:graphic>
          <a:graphicData uri="http://schemas.openxmlformats.org/drawingml/2006/table">
            <a:tbl>
              <a:tblPr/>
              <a:tblGrid>
                <a:gridCol w="609480"/>
                <a:gridCol w="558720"/>
                <a:gridCol w="609840"/>
                <a:gridCol w="1803240"/>
                <a:gridCol w="78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DETA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381"/>
          <p:cNvSpPr/>
          <p:nvPr/>
        </p:nvSpPr>
        <p:spPr>
          <a:xfrm>
            <a:off x="1676520" y="1312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ntrol 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591397-AB10-449A-A569-6B8DDE9AE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478560" y="4038480"/>
            <a:ext cx="25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RTS MARKED YELLOW HAVE POLA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248520" y="4038480"/>
            <a:ext cx="241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173640" y="3124080"/>
            <a:ext cx="310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. ENSURE ALL PARTS ARE CORRECT ORI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72200" y="3505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. ENSURE ALL SOLDER JOINTS ARE IN ACCORDANCE WITH</a:t>
            </a:r>
            <a:br>
              <a:rPr sz="900"/>
            </a:b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  SPECIF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706400" y="133668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 INSERTS S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7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550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759720" cy="102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3"/>
          <a:stretch/>
        </p:blipFill>
        <p:spPr>
          <a:xfrm>
            <a:off x="7467480" y="4419720"/>
            <a:ext cx="59688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4"/>
          <a:stretch/>
        </p:blipFill>
        <p:spPr>
          <a:xfrm>
            <a:off x="8305920" y="4419720"/>
            <a:ext cx="906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A58207-94DF-49BB-A304-43C8C6451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8480520" cy="180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6019920" cy="2506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693800" y="133020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YDATA AUTO INSERT S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952560" cy="909360"/>
          </a:xfrm>
          <a:prstGeom prst="rect">
            <a:avLst/>
          </a:prstGeom>
          <a:ln w="0">
            <a:noFill/>
          </a:ln>
        </p:spPr>
      </p:pic>
      <p:sp>
        <p:nvSpPr>
          <p:cNvPr id="112" name="Line 11"/>
          <p:cNvSpPr/>
          <p:nvPr/>
        </p:nvSpPr>
        <p:spPr>
          <a:xfrm>
            <a:off x="1523880" y="5410080"/>
            <a:ext cx="10670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0ED528-A0B6-44F4-9CBF-B1168C40F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556480" cy="55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6118200" cy="2536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693800" y="133020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HIP S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B1E6DA-E011-4363-957A-0FE266EFD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6203880"/>
            <a:ext cx="7566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512200" cy="85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6087960" cy="2536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693800" y="133020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D AUTO INSERT S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8381880" y="6553080"/>
            <a:ext cx="10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D98C9F-5227-45A2-86EB-280B1967E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82"/>
          <p:cNvSpPr/>
          <p:nvPr/>
        </p:nvSpPr>
        <p:spPr>
          <a:xfrm>
            <a:off x="1693800" y="1330200"/>
            <a:ext cx="35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ND ASSY &amp; SOLDER POST WAVE S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89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51868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91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7459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3:51:02Z</dcterms:created>
  <dc:creator> </dc:creator>
  <dc:description/>
  <dc:language>en-US</dc:language>
  <cp:lastModifiedBy>Rich</cp:lastModifiedBy>
  <dcterms:modified xsi:type="dcterms:W3CDTF">2018-03-29T16:19:28Z</dcterms:modified>
  <cp:revision>36</cp:revision>
  <dc:subject/>
  <dc:title>Revision history</dc:title>
</cp:coreProperties>
</file>